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E03-F078-411C-B003-4CCBFAB0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B24-9D06-4BB0-9D65-29E27899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3CD-9E1F-4C8A-B6F6-8CA09AF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0CC-5B2D-4C2E-B55F-0868C018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0FE-91BD-4938-B41D-809031E1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38B-56C4-46A8-9F58-34DA6306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679-E74A-46EC-A7A9-8375662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664-281E-445A-B1D1-1851B27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31E-621C-4D57-96A5-EDF3B0C1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047-E0E6-4700-ADF9-83E5E40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D02-904A-408F-96A4-6353E09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053-E69C-496F-9AA9-BC20189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44E6-7F32-4E9A-89E6-2464D14F975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ما بستحي في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ما بستحي ف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دّام الكلّ بغنّ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م قدّملك هالغنّي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تبتا ولحّنتلّك هي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رح غنيّها لكلّ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رقّة وحنّية واحس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ح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ا في غيرك بالدني حب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نص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شو في أحلى من هيكِ نص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لمّا بوقع بالمخ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ين غيرك حدّي قر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بشوفك يا ربّي ن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ا بتتعب لا ما بتغ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حدك ربّي السامع صوت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ّا بشرب مرّ الك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01T11:57:44Z</dcterms:modified>
  <cp:revision>13</cp:revision>
  <dc:subject/>
  <dc:title>Slide 1</dc:title>
</cp:coreProperties>
</file>